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66A85-54E0-4D55-89BB-B14E436ED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B1445-B9E7-4691-9026-0B990B544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B4188-A488-4A65-A9BA-1ADDF4102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2840A-E07A-4A80-A5CC-6DB00BE35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C9E81-30E4-4A92-98A0-D63708389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F67E2-7DE1-4E58-9E6C-47F296941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C14C3-2920-4D56-915E-A7C675595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05BF7-5CAE-4399-B425-7A64F47DF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90B3E-D0D7-42FE-87CC-8A2254606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6FEC6-81CF-4C76-8A85-1662F7D0F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F3CF4-A81A-48B4-A1D6-40F79B4D2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C8D45-1C9B-4852-89F0-F649E6E1B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D981C-0F98-45F9-B44A-52302C14A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91D4E-3CE6-4DC2-AB93-89F3EE816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3643B-E637-4EC6-B9DB-9CCD879FE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48DA1-221C-4CDC-9B85-19DAF4188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D2A4F-9478-462E-843E-C3FC6B338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4C309-8664-4B76-BC6B-FA55ACB8C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35F0B-2930-4F54-953C-A90F82509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BF614-1A0B-4CFE-906D-E965BACD2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EBDC6-656F-48C8-B791-718AD925C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1B6E2-BB59-491B-B7BC-5679D5092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1D8FD-ED7D-4506-B22C-63694F10D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E2394-D884-460B-95BF-99006611E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1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09DBE-56F2-4086-9033-CBA53072345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5315A-65CD-4C95-8DE6-5AA1621B546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7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장 행동관리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371600" y="3645000"/>
            <a:ext cx="64008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고전행동주의와 신행동주의 차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-R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과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-R-S (ABC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수정의 관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거 또는 증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성취동기 향상 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보상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칭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흥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동기부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효능감과 귀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교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행동수정 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바람직한 행동의 증가 전략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적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적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토큰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할머니 법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remark Principle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계약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바람직하지 못한 행동의 감소 전략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소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연대책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학급관리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실의 물리적 배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의 조 편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좌석배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실생활 규칙 제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질문</a:t>
            </a: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?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979640" y="1844640"/>
            <a:ext cx="475308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0T03:46:38Z</dcterms:created>
  <dc:creator>.</dc:creator>
  <dc:description/>
  <dc:language>en-US</dc:language>
  <cp:lastModifiedBy>f</cp:lastModifiedBy>
  <dcterms:modified xsi:type="dcterms:W3CDTF">2007-05-02T01:29:10Z</dcterms:modified>
  <cp:revision>9</cp:revision>
  <dc:subject/>
  <dc:title>제 7장 체육교육과정</dc:title>
</cp:coreProperties>
</file>